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0AE-4648-4194-B4F1-211B8139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29E-BC7A-4318-8EF6-4C321EE2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00066-017D-4D1E-A12D-8E4EEECB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188FE-49A1-4305-A6E2-543A0F9A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395BA-C87D-41F1-8FFF-5B8F2D8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52CA4-7CE9-470D-A613-17C4C1D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EB3FB-C180-40B5-91BB-E6EBEE3D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A8A15-58E7-4CDE-9299-1EE9E432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0A774-9514-49AE-AD27-77DE66C4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2792D-F28D-4D0B-9408-BF403886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2A1C1-7918-4BFB-80FC-B1193DEA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D2D26-F1FF-4C27-9473-686B7F8B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2C1-F045-42D7-8B9C-276E8286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A204E-AA86-450E-9F10-27CAEC73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E8CEC-B511-4F8E-ACC6-9F3D5596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CD620-9340-4C27-A577-114472FA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C4DD7-1669-43A5-8597-D0625622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773E2-8764-49A8-99DD-6B4B1311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44DF2-7B5A-495F-9567-EE1C67B2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12112-E4C2-423F-9079-57E12A18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6160A-8995-4CB4-A9D6-C579051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D8A87-C251-4AB2-9106-7DBF9C99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02173-4C67-4C00-B3CB-6DF5D426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03D-640A-4CB6-8A15-2E8E9F4E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26E55-31B6-422D-BB05-2B7CE8FC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2CDDF-1427-4472-9B7A-B4669913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5600C-D737-4824-A97B-39DA5075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7E984-5600-42FB-B689-9C45CC12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EBA7F-9F1C-43C4-A038-0DEFF19D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FB7E4-EA6C-4BE0-A43F-A895A664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157A2-BBB2-4278-9D02-B842C1C3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5DD32-8043-43EE-B88D-481F5CB9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D202A-95B6-490B-A088-9C3E839E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F3416-F886-454B-B277-252DFCC6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8AB4-EEBA-4A2B-8C94-FA680C7B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CD74D-A7CA-49E5-920C-5EFCFB4E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41E8D-0686-40C9-9655-850214EB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99BA3-71FA-4827-AE1F-E6F7E55A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2DC49-661A-4EDF-85AF-64805022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A8E96-B6D6-4BC9-8664-8D7BBE7D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617EF-7B3F-4B8E-B25C-5801B702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C64C3-0BAE-4581-9663-481A552A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079B3-C314-4DDC-935E-AC8BB707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D9093-9700-4B83-BF48-DB3B5A2C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37C91-829B-4F1F-8F2B-E0BC8B25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6F57-2A90-4BCF-985E-6DB37B70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5F63E-E4E9-4BFF-B622-21711800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839B4-3E50-4E35-B362-EF8D605D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D19DA-7700-41EF-8519-299C9EA4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5C2B3-EE5B-495F-9314-778282C5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0EE50-D3D8-4E84-93CE-21FE027B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FD090-EF1D-40A0-9414-45BC6C53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DDE2A-991C-42EC-ADB5-E645C54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0754E0-7F8C-4094-A9C4-50B8ABC9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4E353-FF83-4244-A187-51799B90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49306-64D0-4B55-8541-0C078512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6096-21FE-40E8-93C6-144396D4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500D1-4859-4E31-93A7-8F250345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6FB4B-528D-4E94-A536-B896FBBA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D7EA3-53C8-4AF5-BB30-30E4239F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C99FB-53A9-4889-BBEC-58EDF2A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32739-C5D4-43B6-8E33-6E7A4BDF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1EB4A-E499-4548-9522-966C0B6B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E5CA0-6071-4084-A9C3-161B3829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62F6F-E288-4DE1-9D0F-4EB5B34F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B2FFF-85BE-4263-8B0F-9D52B15D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E92636-EEF7-46A1-AC32-DF7091B6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2B77-BD89-4A8D-A3F2-F0466B2E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036D8-10FE-41D8-A217-59F4AE5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4C197-98D7-4880-9E53-BD900C5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27E09-9E98-4797-8938-82DAE11F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303AE-D373-4BA4-99A2-E3665BE8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4287B-6D4A-4C7C-8968-9A15A625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5761D-134D-4157-ABF8-2BD8C302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60A34-C90D-46E9-B748-A598D3E0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28355-0166-4E34-AF22-0C53B6CF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4F68F-FA5A-44F2-A946-67319477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623B4-324A-4905-A2C9-7AB82D7A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D0DF-236B-4D92-9283-D2EDDC9C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4C4D5-454E-43DB-B2DA-250A47B9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45BAF-AADA-486B-9D44-0B394ADD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51696-D92C-4547-845D-53DCA061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B905D-ED1D-491C-A9AC-E4078E2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AC5B1-40A3-4E52-A307-C1FA719A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EB650-DBDC-4CB3-8ACE-61C79F4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D9B95-6524-4425-B3EB-B45FE141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A15B3-CC40-4E23-AB58-4EE97AB2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B3925-9BAC-4323-9D08-D00DD78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AC0D1-1654-41B2-8CA3-6BFC6C6D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8040-2ABA-4955-9675-7DF503AD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D9081-6836-48BB-AFB7-C9E6459B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1C6F3F-ED16-4C42-B3E4-956ED10B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A139F-12B5-4F86-B9A6-CF8880D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226C0-B8DA-4687-96EF-FEF49C17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06E71-8DAE-4477-86A5-5C3D43A2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F8BA0-8F70-45B2-BDD3-E50401DE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EE322-BA37-4E81-9E49-5D6E934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3D904-0A71-4094-A3A3-0C32F7BD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47DCA9-1B55-4C32-8362-7CC1DAA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54462-56D4-4902-9DCB-F0F76B25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608F-3A4B-494C-8FBA-EF9FE780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43FFD-CEAF-4F28-88FD-B24BE43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76E53-0F99-4822-87FD-84FB3D45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2F58E-0C99-4BF0-8F7F-4006B801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794BCD-66E0-47A3-BCA5-C252AA6A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ACCBA-9BBC-4275-8023-816791E7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6E565-B9E1-4A1E-BA11-82F7D580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2EB1D-2C6C-4678-B357-597CCF92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70C3E-E194-4EE7-A5E2-FFA3F316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67B05-3B01-43E9-A5A7-54405E6B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7F01F-B35C-44CD-AD2F-4DB4B6A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0A5-A63C-4A3A-B504-BCB148E6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A6ED-B14E-4703-924F-D126DC3F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C23F88-3BAA-4C1F-A972-3BCE14B6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FCE31-86A4-4DBF-990E-D5AB5E0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5EBC9-63BE-428F-8742-B8AFF79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0D590D-BF8B-4DA7-9107-DCC55198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AA7A8-F6D1-4D01-BE0B-693A771A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4443BA-568F-4104-979B-D25CFCA3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38C3C-D807-4970-9AE0-50A34A30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3063C2-896D-42DD-B3ED-4AB94D7D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BECB8-D80F-40B1-8C33-A453C213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891EFA-B89C-41EC-A64F-2E047138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E086-CAAC-4182-A1ED-46E278D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A35A06-CA01-42D9-A206-EC8E32EB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8A0FA-2496-4B38-A353-86B83307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57E9C-B242-4775-82FE-2EDB207F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5EA7B3-919F-4E3C-9ED7-D6994BC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80E2B-B137-477C-8AD9-CF7ED794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2335E-5FE7-40CD-B251-9434D78A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6F519-DC58-40E9-95C6-CB5AD6DE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E9E438-CC9E-42AC-BF69-22D826E2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C57A7-9E63-4E7D-80FF-1B8EB534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917ADC-B2ED-4DB2-9C73-8780C1A8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51AF-C5E6-46B3-A9DB-9097E6B5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82457-5230-4426-B529-017BC6F7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915C8-E6C8-4340-9EB7-B1D20C8D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2C1C4-1AD9-475D-9698-4422BCE1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FDDC4-FCAE-4275-B064-E1FF539D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3E4F60-DD3F-4CFB-86A2-515B04F1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C313D-E5A0-4440-B85D-1CB02D31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D31AF6-6C48-4845-9B96-51055125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228B2-5705-4DF1-9D52-3A784553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CF906-C39B-45EF-9243-DD2C4861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F62EF8-5EE9-48BB-BE32-D05CAE96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D314-808B-4AC2-BA4B-70DAD803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BBC58-83B0-480E-9B65-FA03232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D6E7E7-D6F4-45C6-B2A7-7E4E96BA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44B66-AE72-4602-A903-94D7E132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AE252-69D8-4306-897D-65446913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333C6D-A249-4312-8146-503D2776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E6741C-25DC-4A6A-84FB-2FA0D09E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039218-08CB-4AD3-A78E-B1ED55F7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CE5F4-B238-4E55-8999-8AB7BCC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72D77-AD51-4347-AE31-D5E81B85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36A2A-DDAF-40ED-AD12-6604A420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1563-7340-44FA-869C-2BAD76D4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81321-2C73-40F2-AA99-893665DB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4377E-324E-4A5E-BEAA-2C796C42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FD67B-EC2D-48AD-A8B3-CAE8B4A3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B9B01-F308-464D-98D0-D99C713D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35C713-F430-42F5-B415-19BF9431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B72FF9-CE7E-45AC-86FE-E3B67829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DB101-E75D-4F36-947B-EEAA7BD3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604AB-655F-429F-841E-2AA00E46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C4341-0222-4E76-A86F-8146D6B2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C0380-F353-4E32-BA52-019CBAA3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257C3-AA5C-4743-964E-CB6331EE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165BD-06B7-4F5D-B24A-C42000F9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1F1EE-BB28-4A97-A826-4A49CF1F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8ACF3-952A-4D75-BF0F-928B9B4F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88CF-389D-4E87-8334-31B0E5A9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7064B-DB54-4D76-80D6-0BC5249C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BE33-A1A0-484E-81AF-B849CC20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F487F-6E02-4248-8E46-AF22496C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821-AC88-4B38-B85F-FDCD81F4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BA8D-FEEE-4D31-8845-13F5052F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3E88-47DA-4BF0-994C-884ABFFB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9983-E197-4CAB-830F-F3A0D6A8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BF36-DE12-409D-B6CD-E6CCB554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3D96-5CA1-4131-9754-9A770F20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80E4-C726-468F-A110-240F4D6D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8161-010C-46EC-A609-C5C09C46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7EDC-CC1B-469C-AB07-A3F0CD53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5D632-DEB8-474C-BE7D-0C2A1CF7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456AE-67B5-4290-B770-47619D40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F8B-EB4D-46FE-9455-C890D6AF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95A8-E36D-4C0F-BD32-9562AA36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F3398-D728-446B-9DF3-69B15289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130E1-D587-4E6B-AA08-2FE6D388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B265C-7C42-42B8-8EC9-8E586B86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4F0D7-CEF1-4F94-8A41-0134C6C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E2C6-0F56-49E5-8C8A-63739B7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B10A-C9D3-4202-810C-3DDE6348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9455A-639B-4B3F-B913-1D422A06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85E0-F74A-489B-B61D-94B39C1D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9712F-19D0-4B28-8F81-69096E04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989-0FB6-476A-873E-A2DB7FE9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5DC61-2462-48EE-AE89-A2ABC279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2F2FB-D10B-4A8C-9B39-2F3D26F5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7E22-FE98-4D83-893E-3BE607D5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514C-E0C9-4D9A-A5AA-E73157D4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60AA0-9119-4D34-BF42-B908DBDF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9E919-2D9D-40DE-A95C-6E1823F6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8EF6-0E6D-4A31-A1DF-BF19FD44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73718-A85A-47E9-80E5-A6BEBBEF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4B467-310F-4640-930F-30ECACD0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F072F-A3C4-43BD-A55C-63F99F61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B49-DE80-4BA0-B9E1-2618176B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B20EA-B4F2-4427-9BA2-4368441D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43E4F-EEDC-4F8F-B0DA-1EFB76CB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B77BB-E8BA-4F07-BD97-6D05DA5C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38F9E-FCA1-4D55-9460-9CC6370A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82AF-E564-478C-80B6-2F86E7D4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3495F-688E-448B-AE03-51BBE737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B5DB3-2E17-47EC-BFE0-2E4E632D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43CD-61C4-4FA0-B9A1-B63D3040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9205E-ED91-4D9B-AC73-B5D07A2A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C1C2A-8D10-43AB-95E9-91B14D3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09B-AE8A-4DF7-A837-A0067C4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34157-6BB0-4257-A39C-ED48B5B6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1DF9C-487F-471E-BA46-3CCC9CFF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623E-39F9-40F7-BFF0-31A2EB21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13542-5DB7-450F-AEEF-50E22B74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CE6EC-9FA7-4BBF-9758-9BBD0005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DBABB-630E-49CC-B11C-9BA87FFB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B3B1B-0531-4B30-81FA-C6084A4F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0300B-489A-4527-BF51-9773ACE0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53FDB-AE91-41AF-ABE9-76BBFBFD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4B08-1620-4685-AB73-74611254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B55-771E-4EC4-86E6-FCA199C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98395-E3F4-4E37-9B82-09B46429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E909D-3F77-4D52-9CB2-FB4666A4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BD5CE-B59B-4E4B-BAAF-D71356C5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729F-6A39-41BC-BE08-96C27E3A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68DD-8A03-42AD-9937-DF3465F0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3EDE9-C4FA-422A-B8CC-E4687560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6EDDF-6E01-4284-8E59-965B3A27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1DD86-242B-411F-A40D-53A6DB95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05A2-BFCC-49AA-A59B-19F8F3AC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3E254-4737-4F14-82EB-E56C498B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430-4A21-473F-8D1E-1E70921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4A045-F8B1-4126-A5E8-497B2FEB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4FCBB-F8EC-44E3-B7D6-42D31FF4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E4375-D7D0-46BF-BCE5-54D3198B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F12AE-BAF1-4FAA-9D46-BAFEF19D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2620-9803-4235-8EFA-44B0877D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84A03-742E-409A-8D81-2002DB42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7196D-64C3-480D-8475-7206C5FE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910EC-8951-41F1-BE57-5D41BBCE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ED655-3BD4-472A-AEB9-6921F985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933C2-F79C-4C58-8223-5F5B7C2E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05A4-12E9-4D0E-92D4-AAECB2614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C74F-2110-4F23-951E-80B7815DB6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2E10-459A-4D95-B4BB-21DF43653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1FFF-B49D-4B0A-BE90-9868FD8599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C64-17F5-4D1B-B6AE-56640BF696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0055-B5AA-4880-BC77-E7E3B0D91C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5379-0120-457F-ACDD-5FBCD1CC63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94CA-E229-4FA4-8F7A-079F7FBB3F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8FE4-4090-4258-9CBE-1A650B1811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A6D2-829C-41FA-B70A-E305BFB6F7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1FF8-7529-4FC9-906C-A4F406B30A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E659-0BB8-4BC8-BE01-86A27B3D50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69F7-0FFA-4423-B613-646D555CA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B862-BD73-4B51-A019-A3DAF5B0D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5D3A-E853-4733-B201-0E9EF48F57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391D-2600-4B56-A378-F90A304B1F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6395-7887-4AFB-A5BF-3F00E3A5C4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258B-3B4B-4FD6-9CE1-F4CCCED31E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67B8-54A2-4ABC-B770-E2092DF529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731C-574D-49C9-A566-CD366D97AB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36C0-9163-48DA-8B75-45A46E6606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CC56-0547-41D3-88A0-C9B28F0387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912-E0C3-4F28-9D55-A22239413D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2A29-2020-49B8-9BB0-1DA5374706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218E-A1C1-4A72-AC50-E616AF28A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F912-CE8D-4297-AA71-9B6D3D78D1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A8E-C062-41F3-A6ED-325B738889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5672-A70D-4059-B197-95D342B81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0F46-62EE-40BE-9857-A10EC10095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E8D7-454A-41E3-904D-2F17C046DB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B67E-C89D-4C72-BF75-52A5BA9BB3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DE1E-6FE9-4D18-BAB1-5C0F1FF21E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1500-98FD-4F3F-B52C-229A090111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256E-856D-427F-BCEF-A2F15B09AA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BCE5-0218-41DD-A066-3EFF0F4F9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C710-0659-4FA2-8E4F-71E2F4880F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1228-60FE-4218-9140-0E4898D5E2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A3C6-6EFD-4512-ABF8-74FCDBCD6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266C-BFF8-487A-8610-5063747574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EBE2-8E3A-405C-AA73-02CFF42ABF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062080" y="3176640"/>
            <a:ext cx="50198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519120" y="730080"/>
            <a:ext cx="7981920" cy="60566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2"/>
          <a:stretch/>
        </p:blipFill>
        <p:spPr>
          <a:xfrm>
            <a:off x="519120" y="1198440"/>
            <a:ext cx="4875120" cy="693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3"/>
          <a:stretch/>
        </p:blipFill>
        <p:spPr>
          <a:xfrm>
            <a:off x="431640" y="1971720"/>
            <a:ext cx="4875480" cy="693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4"/>
          <a:stretch/>
        </p:blipFill>
        <p:spPr>
          <a:xfrm>
            <a:off x="271440" y="2816280"/>
            <a:ext cx="4875120" cy="6937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5"/>
          <a:stretch/>
        </p:blipFill>
        <p:spPr>
          <a:xfrm>
            <a:off x="326880" y="3589200"/>
            <a:ext cx="4875480" cy="693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6"/>
          <a:stretch/>
        </p:blipFill>
        <p:spPr>
          <a:xfrm>
            <a:off x="436680" y="4433760"/>
            <a:ext cx="8200800" cy="693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5" descr=""/>
          <p:cNvPicPr/>
          <p:nvPr/>
        </p:nvPicPr>
        <p:blipFill>
          <a:blip r:embed="rId7"/>
          <a:stretch/>
        </p:blipFill>
        <p:spPr>
          <a:xfrm>
            <a:off x="492120" y="5207040"/>
            <a:ext cx="8201160" cy="692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5" descr=""/>
          <p:cNvPicPr/>
          <p:nvPr/>
        </p:nvPicPr>
        <p:blipFill>
          <a:blip r:embed="rId8"/>
          <a:stretch/>
        </p:blipFill>
        <p:spPr>
          <a:xfrm>
            <a:off x="646200" y="5965920"/>
            <a:ext cx="7823160" cy="3934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"/>
          <p:cNvPicPr/>
          <p:nvPr/>
        </p:nvPicPr>
        <p:blipFill>
          <a:blip r:embed="rId9"/>
          <a:stretch/>
        </p:blipFill>
        <p:spPr>
          <a:xfrm>
            <a:off x="630360" y="6380280"/>
            <a:ext cx="78231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318960" y="1347840"/>
            <a:ext cx="8506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1" descr=""/>
          <p:cNvPicPr/>
          <p:nvPr/>
        </p:nvPicPr>
        <p:blipFill>
          <a:blip r:embed="rId1"/>
          <a:stretch/>
        </p:blipFill>
        <p:spPr>
          <a:xfrm>
            <a:off x="504720" y="1009800"/>
            <a:ext cx="8134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1" descr=""/>
          <p:cNvPicPr/>
          <p:nvPr/>
        </p:nvPicPr>
        <p:blipFill>
          <a:blip r:embed="rId1"/>
          <a:stretch/>
        </p:blipFill>
        <p:spPr>
          <a:xfrm>
            <a:off x="504720" y="1019160"/>
            <a:ext cx="8134560" cy="54100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5" descr=""/>
          <p:cNvPicPr/>
          <p:nvPr/>
        </p:nvPicPr>
        <p:blipFill>
          <a:blip r:embed="rId2"/>
          <a:stretch/>
        </p:blipFill>
        <p:spPr>
          <a:xfrm>
            <a:off x="496800" y="1768320"/>
            <a:ext cx="8304480" cy="3924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5" descr=""/>
          <p:cNvPicPr/>
          <p:nvPr/>
        </p:nvPicPr>
        <p:blipFill>
          <a:blip r:embed="rId3"/>
          <a:stretch/>
        </p:blipFill>
        <p:spPr>
          <a:xfrm>
            <a:off x="336600" y="2181240"/>
            <a:ext cx="8304120" cy="3938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5" descr=""/>
          <p:cNvPicPr/>
          <p:nvPr/>
        </p:nvPicPr>
        <p:blipFill>
          <a:blip r:embed="rId4"/>
          <a:stretch/>
        </p:blipFill>
        <p:spPr>
          <a:xfrm>
            <a:off x="463680" y="2595600"/>
            <a:ext cx="8304120" cy="7192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" descr=""/>
          <p:cNvPicPr/>
          <p:nvPr/>
        </p:nvPicPr>
        <p:blipFill>
          <a:blip r:embed="rId5"/>
          <a:stretch/>
        </p:blipFill>
        <p:spPr>
          <a:xfrm>
            <a:off x="447840" y="3368520"/>
            <a:ext cx="8304120" cy="7192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" descr=""/>
          <p:cNvPicPr/>
          <p:nvPr/>
        </p:nvPicPr>
        <p:blipFill>
          <a:blip r:embed="rId6"/>
          <a:stretch/>
        </p:blipFill>
        <p:spPr>
          <a:xfrm>
            <a:off x="358920" y="4141800"/>
            <a:ext cx="8304120" cy="719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7"/>
          <a:stretch/>
        </p:blipFill>
        <p:spPr>
          <a:xfrm>
            <a:off x="485640" y="4930920"/>
            <a:ext cx="8304480" cy="7189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" descr=""/>
          <p:cNvPicPr/>
          <p:nvPr/>
        </p:nvPicPr>
        <p:blipFill>
          <a:blip r:embed="rId8"/>
          <a:stretch/>
        </p:blipFill>
        <p:spPr>
          <a:xfrm>
            <a:off x="419040" y="5649840"/>
            <a:ext cx="8305920" cy="3920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5" descr=""/>
          <p:cNvPicPr/>
          <p:nvPr/>
        </p:nvPicPr>
        <p:blipFill>
          <a:blip r:embed="rId9"/>
          <a:stretch/>
        </p:blipFill>
        <p:spPr>
          <a:xfrm>
            <a:off x="403200" y="6072120"/>
            <a:ext cx="83041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1" descr=""/>
          <p:cNvPicPr/>
          <p:nvPr/>
        </p:nvPicPr>
        <p:blipFill>
          <a:blip r:embed="rId1"/>
          <a:stretch/>
        </p:blipFill>
        <p:spPr>
          <a:xfrm>
            <a:off x="609480" y="1162080"/>
            <a:ext cx="7925040" cy="51246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5" descr=""/>
          <p:cNvPicPr/>
          <p:nvPr/>
        </p:nvPicPr>
        <p:blipFill>
          <a:blip r:embed="rId2"/>
          <a:stretch/>
        </p:blipFill>
        <p:spPr>
          <a:xfrm>
            <a:off x="480960" y="1131840"/>
            <a:ext cx="8304120" cy="3920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5" descr=""/>
          <p:cNvPicPr/>
          <p:nvPr/>
        </p:nvPicPr>
        <p:blipFill>
          <a:blip r:embed="rId3"/>
          <a:stretch/>
        </p:blipFill>
        <p:spPr>
          <a:xfrm>
            <a:off x="536400" y="1600200"/>
            <a:ext cx="8304480" cy="7016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4"/>
          <a:stretch/>
        </p:blipFill>
        <p:spPr>
          <a:xfrm>
            <a:off x="590400" y="2373480"/>
            <a:ext cx="8305920" cy="7016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" descr=""/>
          <p:cNvPicPr/>
          <p:nvPr/>
        </p:nvPicPr>
        <p:blipFill>
          <a:blip r:embed="rId5"/>
          <a:stretch/>
        </p:blipFill>
        <p:spPr>
          <a:xfrm>
            <a:off x="503280" y="3146400"/>
            <a:ext cx="8304120" cy="7016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" descr=""/>
          <p:cNvPicPr/>
          <p:nvPr/>
        </p:nvPicPr>
        <p:blipFill>
          <a:blip r:embed="rId6"/>
          <a:stretch/>
        </p:blipFill>
        <p:spPr>
          <a:xfrm>
            <a:off x="485640" y="3935520"/>
            <a:ext cx="8305920" cy="7016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5" descr=""/>
          <p:cNvPicPr/>
          <p:nvPr/>
        </p:nvPicPr>
        <p:blipFill>
          <a:blip r:embed="rId7"/>
          <a:stretch/>
        </p:blipFill>
        <p:spPr>
          <a:xfrm>
            <a:off x="469800" y="4708440"/>
            <a:ext cx="8304480" cy="7016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5" descr=""/>
          <p:cNvPicPr/>
          <p:nvPr/>
        </p:nvPicPr>
        <p:blipFill>
          <a:blip r:embed="rId8"/>
          <a:stretch/>
        </p:blipFill>
        <p:spPr>
          <a:xfrm>
            <a:off x="453960" y="5481720"/>
            <a:ext cx="83041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Picture 1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839000" cy="27525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"/>
          <p:cNvPicPr/>
          <p:nvPr/>
        </p:nvPicPr>
        <p:blipFill>
          <a:blip r:embed="rId2"/>
          <a:stretch/>
        </p:blipFill>
        <p:spPr>
          <a:xfrm>
            <a:off x="347760" y="1000080"/>
            <a:ext cx="8304120" cy="7016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3"/>
          <a:stretch/>
        </p:blipFill>
        <p:spPr>
          <a:xfrm>
            <a:off x="331920" y="1773360"/>
            <a:ext cx="8304120" cy="7016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"/>
          <p:cNvPicPr/>
          <p:nvPr/>
        </p:nvPicPr>
        <p:blipFill>
          <a:blip r:embed="rId4"/>
          <a:stretch/>
        </p:blipFill>
        <p:spPr>
          <a:xfrm>
            <a:off x="387360" y="2546280"/>
            <a:ext cx="8304120" cy="7016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5" descr=""/>
          <p:cNvPicPr/>
          <p:nvPr/>
        </p:nvPicPr>
        <p:blipFill>
          <a:blip r:embed="rId5"/>
          <a:stretch/>
        </p:blipFill>
        <p:spPr>
          <a:xfrm>
            <a:off x="514440" y="3319560"/>
            <a:ext cx="83041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2920" y="909720"/>
            <a:ext cx="4209840" cy="37335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829040" y="714240"/>
            <a:ext cx="4172040" cy="5648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1521000" y="2703600"/>
            <a:ext cx="1503360" cy="3078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1863720" y="3044880"/>
            <a:ext cx="1501920" cy="3016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1703520" y="3378240"/>
            <a:ext cx="1176120" cy="279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201600" y="3691080"/>
            <a:ext cx="150192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tretch/>
        </p:blipFill>
        <p:spPr>
          <a:xfrm>
            <a:off x="109440" y="857160"/>
            <a:ext cx="4248360" cy="4734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2"/>
          <a:stretch/>
        </p:blipFill>
        <p:spPr>
          <a:xfrm>
            <a:off x="4857840" y="857160"/>
            <a:ext cx="4181400" cy="2581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5" descr=""/>
          <p:cNvPicPr/>
          <p:nvPr/>
        </p:nvPicPr>
        <p:blipFill>
          <a:blip r:embed="rId3"/>
          <a:stretch/>
        </p:blipFill>
        <p:spPr>
          <a:xfrm>
            <a:off x="1563840" y="2152800"/>
            <a:ext cx="2793960" cy="307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4"/>
          <a:stretch/>
        </p:blipFill>
        <p:spPr>
          <a:xfrm>
            <a:off x="237960" y="2536920"/>
            <a:ext cx="4195800" cy="3078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5" descr=""/>
          <p:cNvPicPr/>
          <p:nvPr/>
        </p:nvPicPr>
        <p:blipFill>
          <a:blip r:embed="rId5"/>
          <a:stretch/>
        </p:blipFill>
        <p:spPr>
          <a:xfrm>
            <a:off x="77760" y="2863800"/>
            <a:ext cx="4419720" cy="504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6"/>
          <a:stretch/>
        </p:blipFill>
        <p:spPr>
          <a:xfrm>
            <a:off x="61920" y="3484440"/>
            <a:ext cx="4417920" cy="505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7"/>
          <a:stretch/>
        </p:blipFill>
        <p:spPr>
          <a:xfrm>
            <a:off x="90360" y="4041720"/>
            <a:ext cx="2795760" cy="308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8"/>
          <a:stretch/>
        </p:blipFill>
        <p:spPr>
          <a:xfrm>
            <a:off x="44280" y="4400640"/>
            <a:ext cx="4419720" cy="504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9"/>
          <a:stretch/>
        </p:blipFill>
        <p:spPr>
          <a:xfrm>
            <a:off x="74520" y="4957920"/>
            <a:ext cx="4616640" cy="3078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5" descr=""/>
          <p:cNvPicPr/>
          <p:nvPr/>
        </p:nvPicPr>
        <p:blipFill>
          <a:blip r:embed="rId10"/>
          <a:stretch/>
        </p:blipFill>
        <p:spPr>
          <a:xfrm>
            <a:off x="138240" y="5299200"/>
            <a:ext cx="4616280" cy="307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11"/>
          <a:stretch/>
        </p:blipFill>
        <p:spPr>
          <a:xfrm>
            <a:off x="6251400" y="3122640"/>
            <a:ext cx="23814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428760" y="1138320"/>
            <a:ext cx="8238960" cy="5076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2"/>
          <a:stretch/>
        </p:blipFill>
        <p:spPr>
          <a:xfrm>
            <a:off x="8032680" y="5330880"/>
            <a:ext cx="38124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428760" y="952560"/>
            <a:ext cx="8267400" cy="56196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2"/>
          <a:stretch/>
        </p:blipFill>
        <p:spPr>
          <a:xfrm>
            <a:off x="2610000" y="2117880"/>
            <a:ext cx="380880" cy="3078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3"/>
          <a:stretch/>
        </p:blipFill>
        <p:spPr>
          <a:xfrm>
            <a:off x="689040" y="3917880"/>
            <a:ext cx="4848120" cy="3081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4"/>
          <a:stretch/>
        </p:blipFill>
        <p:spPr>
          <a:xfrm>
            <a:off x="528480" y="4251240"/>
            <a:ext cx="5295960" cy="308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5"/>
          <a:stretch/>
        </p:blipFill>
        <p:spPr>
          <a:xfrm>
            <a:off x="512640" y="4538520"/>
            <a:ext cx="5295960" cy="627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6"/>
          <a:stretch/>
        </p:blipFill>
        <p:spPr>
          <a:xfrm>
            <a:off x="515880" y="5165640"/>
            <a:ext cx="8433000" cy="8748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5" descr=""/>
          <p:cNvPicPr/>
          <p:nvPr/>
        </p:nvPicPr>
        <p:blipFill>
          <a:blip r:embed="rId7"/>
          <a:stretch/>
        </p:blipFill>
        <p:spPr>
          <a:xfrm>
            <a:off x="630360" y="6040440"/>
            <a:ext cx="7065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428760" y="720720"/>
            <a:ext cx="8005680" cy="6075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5" descr=""/>
          <p:cNvPicPr/>
          <p:nvPr/>
        </p:nvPicPr>
        <p:blipFill>
          <a:blip r:embed="rId2"/>
          <a:stretch/>
        </p:blipFill>
        <p:spPr>
          <a:xfrm>
            <a:off x="7800840" y="1343160"/>
            <a:ext cx="381240" cy="3078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3"/>
          <a:stretch/>
        </p:blipFill>
        <p:spPr>
          <a:xfrm>
            <a:off x="2965320" y="3889440"/>
            <a:ext cx="381240" cy="307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4"/>
          <a:stretch/>
        </p:blipFill>
        <p:spPr>
          <a:xfrm>
            <a:off x="568440" y="5683320"/>
            <a:ext cx="4248000" cy="5475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5"/>
          <a:stretch/>
        </p:blipFill>
        <p:spPr>
          <a:xfrm>
            <a:off x="479520" y="6218280"/>
            <a:ext cx="4248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299880" y="914400"/>
            <a:ext cx="8544240" cy="58006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2"/>
          <a:stretch/>
        </p:blipFill>
        <p:spPr>
          <a:xfrm>
            <a:off x="7994520" y="5051520"/>
            <a:ext cx="51444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262080" y="785880"/>
            <a:ext cx="8619840" cy="42768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5857920" y="4714920"/>
            <a:ext cx="2857320" cy="19526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785880" y="5143680"/>
            <a:ext cx="4914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4"/>
          <a:stretch/>
        </p:blipFill>
        <p:spPr>
          <a:xfrm>
            <a:off x="689040" y="5214960"/>
            <a:ext cx="5168880" cy="392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" descr=""/>
          <p:cNvPicPr/>
          <p:nvPr/>
        </p:nvPicPr>
        <p:blipFill>
          <a:blip r:embed="rId5"/>
          <a:stretch/>
        </p:blipFill>
        <p:spPr>
          <a:xfrm>
            <a:off x="600120" y="5700600"/>
            <a:ext cx="516888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5047920" cy="9525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2" descr=""/>
          <p:cNvPicPr/>
          <p:nvPr/>
        </p:nvPicPr>
        <p:blipFill>
          <a:blip r:embed="rId2"/>
          <a:stretch/>
        </p:blipFill>
        <p:spPr>
          <a:xfrm>
            <a:off x="676440" y="1785960"/>
            <a:ext cx="7115040" cy="13050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214200" y="3324240"/>
            <a:ext cx="8382240" cy="3390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5" descr=""/>
          <p:cNvPicPr/>
          <p:nvPr/>
        </p:nvPicPr>
        <p:blipFill>
          <a:blip r:embed="rId4"/>
          <a:stretch/>
        </p:blipFill>
        <p:spPr>
          <a:xfrm>
            <a:off x="511200" y="874800"/>
            <a:ext cx="7823160" cy="3920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5"/>
          <a:stretch/>
        </p:blipFill>
        <p:spPr>
          <a:xfrm>
            <a:off x="495360" y="1289160"/>
            <a:ext cx="7823160" cy="392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5" descr=""/>
          <p:cNvPicPr/>
          <p:nvPr/>
        </p:nvPicPr>
        <p:blipFill>
          <a:blip r:embed="rId6"/>
          <a:stretch/>
        </p:blipFill>
        <p:spPr>
          <a:xfrm>
            <a:off x="479520" y="1806480"/>
            <a:ext cx="7823160" cy="393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7"/>
          <a:stretch/>
        </p:blipFill>
        <p:spPr>
          <a:xfrm>
            <a:off x="461880" y="2220840"/>
            <a:ext cx="7823160" cy="392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8"/>
          <a:stretch/>
        </p:blipFill>
        <p:spPr>
          <a:xfrm>
            <a:off x="446040" y="2643120"/>
            <a:ext cx="78231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2:42:50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